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08E9-DCB3-4355-AAB4-E3755B577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6511-BFF6-4BE2-B9EA-028AE9061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D29B-DE5E-4922-B7A0-E04B7413E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E8E4-9D2C-4B14-8F39-C9B33D724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D739-EE70-4E3D-8EB2-53935E619D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B11A-A6DB-4235-99CE-90D18ECBD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C167-8CC7-48D4-A515-2CE1AC20B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A7F1-C732-443E-BA89-CAA86ECDA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927B-871D-44B1-82AE-18D4DD406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A257-9128-4912-937E-F633FAFEF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CB26-E1D8-4E2F-8445-352364F08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1CC4-9BAC-4BAC-80EC-0E9AC1507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163794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30D1-6D8C-456D-A72D-A4B615F877AB}" type="slidenum">
              <a:rPr b="0" lang="en-U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specviewlook.ex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lamost.ex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56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174160" cy="720720"/>
          </a:xfrm>
          <a:prstGeom prst="rect">
            <a:avLst/>
          </a:prstGeom>
          <a:solidFill>
            <a:srgbClr val="163794">
              <a:alpha val="88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pecview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系统谈软件的编码风格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987280" y="4581000"/>
            <a:ext cx="2592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峡大学    雷国洪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256536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不管实际业务需求是否需要，大量使用设计模式，导致无法通过阅读代码了解业务逻辑。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1720" y="15573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4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设计模式驱动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565360"/>
            <a:ext cx="7417080" cy="100872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解决一个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Bug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时会深入调查引发这个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BUG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的原因的原因，然后分析修正代码后是否会导致其它代码失败的因果关系，再然后写下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多不同情形的测试，等到有了足够的信心才开始精确修正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Bug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。这样的人水平虽然高，老板养不起。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6920" y="15573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5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侦探型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56536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对代码重构有一种难以控制的极端冲动，容不得长相不好的代码。这样的人带徒弟是不错的，但往往会误大事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96920" y="15573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6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屠宰式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1000" y="1557360"/>
            <a:ext cx="23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pecview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系统的开发者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2637000"/>
            <a:ext cx="7416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一两个设计模式驱动者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一帮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Cargo Cult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极少数撞大运的学生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都很聪明，但初期的参与者一定不是专业程序员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后期可能有专业程序员参与，但因为系统庞大，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不能轻易废除或大规模修改以前的代码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科学计算对开发者的要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1773360"/>
            <a:ext cx="7417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精通业务模型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掌握特定编程语言的语法规则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能够设计复杂的或高效的算法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不限时间可完成数百行规模的程序的开发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开发成果仅限于个人或小组内部使用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开发经验大多来自于书本或师傅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软件系统对开发者的要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2060640"/>
            <a:ext cx="5688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在开发中学习业务领域知识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熟练掌握常规算法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参与软件设计时要掌控可预见的变化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参与编码实现时要在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规定的时间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完成任务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要求写出的代码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非常容易被别的同事读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开发经验来源于多个实际软件项目实战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六、科学计算可视化开发需要规范的编码风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060640"/>
            <a:ext cx="7632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可视化的科学计算开发一定是一个软件系统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软件工程项目管理有成熟的规范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（时间、金钱、质量、人）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（需求、风险、技术攻关）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软件模块的设计原则：信息隐藏、高内聚、低耦合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软件模块的细节设计通过编码实现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好的编码风格：坚持编码级的信息隐藏、高内聚、低耦合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1400" y="1125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普通规范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以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Java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为例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83200" y="1268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增量式开发：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编码级的信息隐藏、高内聚、低耦合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133720"/>
            <a:ext cx="3889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合理使用继承与接口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适当使用设计模式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避免冗长的方法和类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不向标准输出写无用数据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调用方法前注意参数校验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使用对象前检查对象是否为空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避免过多过常创建对象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尽量避免随意使用类成员变量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通过重构改善代码结构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Arial"/>
              </a:rPr>
              <a:t>尽可能测试驱动开发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ordArt 5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21812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关于本次发言的题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844640"/>
            <a:ext cx="763272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Specview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系统是一套直观展示和分析天文光谱图的软件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主要用于哈勃望远镜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Hubble Space Telescope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的数据分析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由 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STScI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研发，哈勃望远镜由他们管理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Space Telescope Science Institute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，太空望远镜科学研究所）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软件功能强大，支持多种其它研究机构的数据格式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（例如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IUE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FUSE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ISO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FORS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163794"/>
                </a:solidFill>
                <a:latin typeface="Arial"/>
              </a:rPr>
              <a:t>SDSS</a:t>
            </a:r>
            <a:r>
              <a:rPr b="1" lang="zh-CN" sz="1600" spc="-1" strike="noStrike">
                <a:solidFill>
                  <a:srgbClr val="163794"/>
                </a:solidFill>
                <a:latin typeface="Arial"/>
              </a:rPr>
              <a:t>等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LAMOST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项目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郭守敬望远镜的数据格式与其中的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SDSS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类似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需要在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LAMOST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数据发布平台上直观分析光谱图，目测红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我们以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Specview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系统的源代码为基础进行了精简和调整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关于本次发言的题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133720"/>
            <a:ext cx="849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从专业程序员角度看，</a:t>
            </a: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Specview</a:t>
            </a: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系统的源代码风格糟糕，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开发效率、修改升级效率必定受到严重影响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结论：科学计算可视化的软件编码风格有必要借鉴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163794"/>
                </a:solidFill>
                <a:latin typeface="Arial"/>
              </a:rPr>
              <a:t>软件工程领域一些成熟的规范 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pecview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界面与目测红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205000"/>
            <a:ext cx="482472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9640" y="1413000"/>
            <a:ext cx="21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2.1 Specview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界面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pecview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界面与目测红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15880" y="1413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2.2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精简与调整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133720"/>
            <a:ext cx="7416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仅仅需要显示观测光谱图，不需要菜单操作对应的复杂功能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短时间内很难直接读懂所有源代码并根据需要取舍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删除、测试、修改、测试、重构、再删除，迭代调整，逐步理清了所需要的源代码框架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6379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增加功能：参照指定元素光谱静止波长与鼠标点击位置的波长计算红移， 动态显示模板光谱图，根据波峰匹配目测红移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pecview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界面与目测红移界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7360" y="14130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2.3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目测红移界面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349360"/>
            <a:ext cx="525636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56536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设计思路混乱，并不确切知道自己在干什么，也不知道所写程序的本质和实际，有时可以让程序工作起来，有时根本不知道某个错误的原因，就开始稀里糊涂地修改代码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6920" y="15573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1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撞大运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256536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知道出了问题而不找原因，隐藏问题后让程序工作起来。比如发现了一个空指针的异常，找到该处，简单地放上一个判断：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if (p != NULL)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。这往往导致几天也解决不了一个古怪的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BUG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8400" y="155736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2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刻舟求剑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不同风格的开发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234936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乐于学习其它编程高手的编程方法，虽然他们并不知道为什么高手们要那样做，但是他们觉得那样做可以让程序工作起来。这往往导致实现目标与设计思路脱节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0920" y="155736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3.3 Cargo-Cul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3860640"/>
            <a:ext cx="7417080" cy="398880"/>
          </a:xfrm>
          <a:prstGeom prst="rect">
            <a:avLst/>
          </a:prstGeom>
          <a:noFill/>
          <a:ln w="2844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163794"/>
                </a:solidFill>
                <a:latin typeface="Arial"/>
              </a:rPr>
              <a:t>Cargo Cults </a:t>
            </a:r>
            <a:r>
              <a:rPr b="1" lang="zh-CN" sz="2000" spc="-1" strike="noStrike">
                <a:solidFill>
                  <a:srgbClr val="163794"/>
                </a:solidFill>
                <a:latin typeface="Arial"/>
              </a:rPr>
              <a:t>这个词来自二战期间太平洋上某个小岛里的土著人。美国在该岛上修建了飞机跑道用于运输战争物资，岛上的人从来没有见过飞机，当他们看到飞机常常给白人运来物资时，认为是跑道的缘故。二战结束后，他们在另一个岛仿照修建了飞机跑道，并用竹子修建了塔台，然后开始期望有飞机为他们送来物品和食物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1:49:36Z</dcterms:created>
  <dc:creator/>
  <dc:description/>
  <dc:language>en-US</dc:language>
  <cp:lastModifiedBy>USER</cp:lastModifiedBy>
  <dcterms:modified xsi:type="dcterms:W3CDTF">2012-11-30T04:47:08Z</dcterms:modified>
  <cp:revision>401</cp:revision>
  <dc:subject/>
  <dc:title>坤艳药业ERP系统解决方案</dc:title>
</cp:coreProperties>
</file>